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2DF9-D014-4B6D-BC93-B76BBBC81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8491-999E-4726-956E-4452E82AB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DBB4-4016-4931-B8B1-F7A6DFE6F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AB08-2DC6-49C5-92C0-E575F0791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49C0-0011-44DF-B29C-65422905E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BFB-4E53-4096-ADEF-BD5B7018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C0A-8ED8-44A8-8657-90CABDE6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5FE-1C7D-4C00-B686-A29E89E4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C38-FE06-46FC-986D-EF3EB37A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D051-2959-48CA-928D-61ED39CB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AC43-5D12-42A2-8238-5ED2E714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077F-BEA0-4790-A689-2C278AE8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1FC8-83BC-41AE-8205-D679C4DB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5775-DC2E-42D9-A3CD-402B3555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8602-4067-41B4-8168-192D7E2E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D7FC-E79E-4E46-8328-163A5B22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F3C-7886-4A4C-9168-9D75BCED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9906-F495-453A-A033-2BA1E36E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09F6-9ACF-453B-962C-EABA4A21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7EE6-58CF-4281-A5A9-D8FCB3B4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7549-24C4-449A-ABD5-AE9CC243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19EF-2854-4CB1-99E6-FCB8039B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5483B-A6A9-4ABE-A764-E3DB9F33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C8414-33F5-4969-875F-D12ACA9B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7287B-3832-4D51-A2F8-C7E76F98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1DD75-79E1-4050-B936-CD45F55B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56C19-AF9C-4CA3-96FE-8B06E38C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0F3-185B-4B5C-99C3-C246340B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6335A-5293-4B58-94ED-4EE9ABEF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8D83A-9F23-46A6-8B82-2AC6B3B9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1C81B-31FF-4E31-840A-9F4E8B30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C483A-738A-4008-85F7-C8068007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01311-32C4-40C7-B823-D059B745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F0A73-0DA3-4A00-B257-01349A29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A3C39-D929-4DE0-9B33-9ACC0210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564-0AA7-4E35-8556-1B106A26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DBFA-D8FB-4323-8CCC-F5044C5C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C186-CB6B-49D0-9AB3-6408A7AC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101F-30ED-4AFF-AB4A-516C4220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243C-D4D9-4951-B8ED-8478B4CC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EDBB-6A74-46AD-9C40-0722EA59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D811-7687-4058-9365-1B154BC98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90BE-4D2D-4E29-A21F-5B098E7477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F741-C2CD-45E3-991A-06CDBDA615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mailto:4caster@longlines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rojects/Geometry%20in%20the%20Real%20World%20Presentation/Logo%20Project%20for%20PAP.doc" TargetMode="External"/><Relationship Id="rId3" Type="http://schemas.openxmlformats.org/officeDocument/2006/relationships/hyperlink" Target="file:///../Projects/Geometry%20in%20the%20Real%20World%20Presentation/Logo%20Project%20for%20Regulars.doc" TargetMode="External"/><Relationship Id="rId4" Type="http://schemas.openxmlformats.org/officeDocument/2006/relationships/hyperlink" Target="file:///../Projects/Geometry%20Goes%20Hollywood.doc" TargetMode="External"/><Relationship Id="rId5" Type="http://schemas.openxmlformats.org/officeDocument/2006/relationships/hyperlink" Target="file:///../Projects/Geometry%20in%20the%20Real%20World%20Presentation/Candy%20Corn%20Project.doc" TargetMode="External"/><Relationship Id="rId6" Type="http://schemas.openxmlformats.org/officeDocument/2006/relationships/hyperlink" Target="file:///../Projects/Geometry%20in%20the%20Real%20World%20Presentation/Cookie%20Exchange%20Recipe%20Project.doc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oems%20and%20stories/pythagoras.doc" TargetMode="External"/><Relationship Id="rId3" Type="http://schemas.openxmlformats.org/officeDocument/2006/relationships/hyperlink" Target="file:///../poems%20and%20stories/special%20right.doc" TargetMode="External"/><Relationship Id="rId4" Type="http://schemas.openxmlformats.org/officeDocument/2006/relationships/hyperlink" Target="file:///../poems%20and%20stories/life%20of%20oliver.doc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oems%20and%20stories/area.doc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oems%20and%20stories/cindy%20at%20the%20dance.doc" TargetMode="External"/><Relationship Id="rId3" Type="http://schemas.openxmlformats.org/officeDocument/2006/relationships/hyperlink" Target="file:///../poems%20and%20stories/Circumference%20%20Mania.doc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rojects/Geometry%20in%20the%20Real%20World%20Presentation/end%20of%20year%20project.doc" TargetMode="External"/><Relationship Id="rId3" Type="http://schemas.openxmlformats.org/officeDocument/2006/relationships/hyperlink" Target="file:///../Projects/Multiple%20Intelligences%20Tic-Tac-Toe.doc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rojects/Geometry%20in%20the%20Real%20World%20Presentation/the%20proof.doc" TargetMode="External"/><Relationship Id="rId3" Type="http://schemas.openxmlformats.org/officeDocument/2006/relationships/hyperlink" Target="file:///../Projects/Geometry%20in%20the%20Real%20World%20Presentation/Advertisement%20Project.doc" TargetMode="External"/><Relationship Id="rId4" Type="http://schemas.openxmlformats.org/officeDocument/2006/relationships/hyperlink" Target="file:///../Projects/Geometry%20in%20the%20Real%20World%20Presentation/If%20you%20give%20a%20geometry%20student%20a%20project.do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oems%20and%20stories/hanging%20angles.doc" TargetMode="External"/><Relationship Id="rId3" Type="http://schemas.openxmlformats.org/officeDocument/2006/relationships/hyperlink" Target="file:///../Projects/Geometry%20in%20the%20Real%20World%20Presentation/Letter%20to%20the%20angle.doc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rojects/Geometry%20in%20the%20Real%20World%20Presentation/City%20Project.doc" TargetMode="External"/><Relationship Id="rId3" Type="http://schemas.openxmlformats.org/officeDocument/2006/relationships/hyperlink" Target="file:///../Projects/Geometry%20in%20the%20Real%20World%20Presentation/city%20letter%20project.doc" TargetMode="External"/><Relationship Id="rId4" Type="http://schemas.openxmlformats.org/officeDocument/2006/relationships/hyperlink" Target="file:///../Projects/Geometry%20in%20the%20Real%20World%20Presentation/Your%20Rubric%20Letter-Writing%20%20City%20Project.mh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oems%20and%20stories/thelma%20lou%20meets%20the%20triangle.doc" TargetMode="External"/><Relationship Id="rId3" Type="http://schemas.openxmlformats.org/officeDocument/2006/relationships/hyperlink" Target="file:///../Projects/Geometry%20in%20the%20Real%20World%20Presentation/congruent%20triangles.doc" TargetMode="External"/><Relationship Id="rId4" Type="http://schemas.openxmlformats.org/officeDocument/2006/relationships/hyperlink" Target="file:///../Projects/Geometry%20in%20the%20Real%20World%20Presentation/Quilt%20Square%20Project.doc" TargetMode="External"/><Relationship Id="rId5" Type="http://schemas.openxmlformats.org/officeDocument/2006/relationships/hyperlink" Target="file:///../Projects/Geometry%20in%20the%20Real%20World%20Presentation/Quilt%20History%20Project.doc" TargetMode="External"/><Relationship Id="rId6" Type="http://schemas.openxmlformats.org/officeDocument/2006/relationships/hyperlink" Target="file:///../Projects/Geometry%20in%20the%20Real%20World%20Presentation/STAIN%20GLASS%20PROJECT.doc" TargetMode="External"/><Relationship Id="rId7" Type="http://schemas.openxmlformats.org/officeDocument/2006/relationships/hyperlink" Target="file:///../Projects/Geometry%20in%20the%20Real%20World%20Presentation/Triangular%20Creativity.doc" TargetMode="External"/><Relationship Id="rId8" Type="http://schemas.openxmlformats.org/officeDocument/2006/relationships/hyperlink" Target="file:///../Projects/Geometry%20in%20the%20Real%20World%20Presentation/Kaleidoscope%20Project.doc" TargetMode="External"/><Relationship Id="rId9" Type="http://schemas.openxmlformats.org/officeDocument/2006/relationships/hyperlink" Target="file:///../Projects/Geometry%20in%20the%20Real%20World%20Presentation/Bridge%20Building%20Project.doc" TargetMode="External"/><Relationship Id="rId10" Type="http://schemas.openxmlformats.org/officeDocument/2006/relationships/hyperlink" Target="file:///../Projects/tic%20tac%20toe%20triangles%20activities.doc" TargetMode="External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rojects/Geometry%20in%20the%20Real%20World%20Presentation/Collage.doc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oems%20and%20stories/clementine.doc" TargetMode="External"/><Relationship Id="rId3" Type="http://schemas.openxmlformats.org/officeDocument/2006/relationships/hyperlink" Target="file:///../Projects/Geometry%20Flag%20Project.doc" TargetMode="External"/><Relationship Id="rId4" Type="http://schemas.openxmlformats.org/officeDocument/2006/relationships/hyperlink" Target="file:///../Projects/Geometry%20in%20the%20Real%20World%20Presentation/Kite%20Project.doc" TargetMode="External"/><Relationship Id="rId5" Type="http://schemas.openxmlformats.org/officeDocument/2006/relationships/hyperlink" Target="file:///../Projects/Geometry%20in%20the%20Real%20World%20Presentation/Kite%20Guidelines%20and%20Grading%20of%20Kite.doc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Projects/Geometry%20in%20the%20Real%20World%20Presentation/Creating%20a%20Career%20Solid.doc" TargetMode="External"/><Relationship Id="rId3" Type="http://schemas.openxmlformats.org/officeDocument/2006/relationships/hyperlink" Target="file:///../Projects/Flatland%20project.doc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71600" y="831960"/>
            <a:ext cx="6400800" cy="5194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howcard Gothic"/>
              </a:rPr>
              <a:t>Geometry in the Real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anie Sand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4caster@longlines.com</a:t>
            </a: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Showcard Gothic"/>
              </a:rPr>
              <a:t>Ratios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ogo Projec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advanc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ogo Proje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regul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eometry Goes Holly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andy Corn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oki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Showcard Gothic"/>
              </a:rPr>
              <a:t>Right Triangles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ythagoras P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pecial Right Triangle P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tory of Ol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Showcard Gothic"/>
              </a:rPr>
              <a:t>Area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rea Po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Showcard Gothic"/>
              </a:rPr>
              <a:t>Circles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indy at the D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ircumference M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Showcard Gothic"/>
              </a:rPr>
              <a:t>End of Year Projec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ometry Summar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ultiple Intelligence TIC-TAC-T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Project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Showcard Gothic"/>
              </a:rPr>
              <a:t>Description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:  Geometry in the Re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r:  Stephanie Sand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:  Middle and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:  Geometry can come alive through using project based learning.  Come and see a plethora of geometry projects that incorporates higher order thinking and application to the real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838080" y="53352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howcard Gothic"/>
              </a:rPr>
              <a:t>Let’s get started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990720" y="1752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Teeing off in Geome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914400" y="45720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howcard Gothic"/>
              </a:rPr>
              <a:t>Reasoning and  Proof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609480" y="2286000"/>
            <a:ext cx="739152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roof 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Advertisemen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If you give a geometry student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Showcard Gothic"/>
              </a:rPr>
              <a:t>Angle Relationships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angin’ with the 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gle Le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609480" y="5335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Parallel Lines, Transversals and 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685800" y="2666880"/>
            <a:ext cx="685800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Cit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City Project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City Project Letter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ope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Showcard Gothic"/>
              </a:rPr>
              <a:t>Triangles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lma Lou Meets the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ngruent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Quil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Quilt History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tain Glas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Triangular Creativity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Kaleidoscop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Toothpick Bridge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TIC-TAC-T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Showcard Gothic"/>
              </a:rPr>
              <a:t>Polygons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l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Showcard Gothic"/>
              </a:rPr>
              <a:t>Quadrilaterals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h Clementin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lag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Kit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Kite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Showcard Gothic"/>
              </a:rPr>
              <a:t>3-D and Solids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eating Sol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latland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1:30:22Z</dcterms:created>
  <dc:creator>Jayhawks</dc:creator>
  <dc:description/>
  <dc:language>en-US</dc:language>
  <cp:lastModifiedBy>Stephanie Sandwell</cp:lastModifiedBy>
  <dcterms:modified xsi:type="dcterms:W3CDTF">2010-11-16T16:52:52Z</dcterms:modified>
  <cp:revision>16</cp:revision>
  <dc:subject/>
  <dc:title>Geometry in the Real World</dc:title>
</cp:coreProperties>
</file>